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맑은 고딕"/>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맑은 고딕"/>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move the slide</a:t>
            </a:r>
            <a:endParaRPr b="0" lang="en-US" sz="4400" spc="-1" strike="noStrike">
              <a:solidFill>
                <a:srgbClr val="4f261e"/>
              </a:solidFill>
              <a:latin typeface="Garamon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맑은 고딕"/>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AE71-6776-493E-AF14-9E684C8B3194}" type="slidenum">
              <a:rPr b="0" lang="ko-KR" sz="1200" spc="-1" strike="noStrike">
                <a:solidFill>
                  <a:srgbClr val="000000"/>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a typeface="굴림"/>
            </a:endParaRPr>
          </a:p>
        </p:txBody>
      </p:sp>
      <p:sp>
        <p:nvSpPr>
          <p:cNvPr id="11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8353-7E44-44CE-AE1A-43565089FECE}" type="slidenum">
              <a:rPr b="0" lang="ko-KR" sz="1200" spc="-1" strike="noStrike">
                <a:solidFill>
                  <a:srgbClr val="000000"/>
                </a:solidFill>
                <a:latin typeface="Arial"/>
                <a:ea typeface="맑은 고딕"/>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E0623-5FD3-4C19-BA28-FE47AD484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82A80-0584-4D19-A731-B49CB29E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109CF-938A-475D-9323-EC18BFC68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DD82-E9A3-4248-A300-998B84C1A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EAA63-894A-44FF-9603-DA8026CB4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0F1A4-B2B1-4FBA-A3D3-435346DF7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D1150-2AA3-4F42-A550-92CCB44C1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1AACA-A9BF-40E1-93E6-BA57CC05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D9425-DE9C-4A9D-89BC-44683222A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764F8-69DC-4EDA-85B9-7D5598255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06EA2-6E04-4358-83AD-36AC2E9F7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FD0C-6551-4F80-A783-542B7620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8FE54-DB0A-4761-978E-F2BFB32FB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2969-38E2-4E2D-9C86-D8EB8E392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F5A9-E15A-465C-A30D-C011FE9E4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738B5-938C-4840-B7B4-D5D27D71B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9951E-C2B8-4B67-A77A-CE6C9E70C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D183-210B-4FE4-A5B4-6BCEADDC5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6FDF-6050-4148-ADC1-8B9A857CE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9076-02D1-4ECC-B1DD-10A85DC5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6B5F4-7F69-4927-8593-9209A898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45FD-4EFC-4544-B2AF-D45922EB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A5BF-C911-41A1-A325-B484DE43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5630-4E00-4D61-9C6F-D5CAC6194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4B92-BB54-45D7-A411-DFD9E943B997}" type="slidenum">
              <a:rPr b="0" lang="en-US" sz="1200" spc="-1" strike="noStrike">
                <a:solidFill>
                  <a:srgbClr val="4f261e"/>
                </a:solidFill>
                <a:latin typeface="Garamond"/>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45" name="PlaceHolder 3"/>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97BE-78EB-4F12-8BF6-723CB9EF9BCA}" type="slidenum">
              <a:rPr b="0" lang="en-US" sz="1200" spc="-1" strike="noStrike">
                <a:solidFill>
                  <a:srgbClr val="4f261e"/>
                </a:solidFill>
                <a:latin typeface="Garamond"/>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1844640"/>
            <a:ext cx="746784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aramond"/>
                <a:ea typeface="굴림"/>
              </a:rPr>
              <a:t>Visual Project</a:t>
            </a:r>
            <a:endParaRPr b="0" lang="en-US" sz="6600" spc="-1" strike="noStrike">
              <a:solidFill>
                <a:srgbClr val="4f261e"/>
              </a:solidFill>
              <a:latin typeface="Garamond"/>
            </a:endParaRPr>
          </a:p>
        </p:txBody>
      </p:sp>
      <p:sp>
        <p:nvSpPr>
          <p:cNvPr id="92" name="PlaceHolder 2"/>
          <p:cNvSpPr>
            <a:spLocks noGrp="1"/>
          </p:cNvSpPr>
          <p:nvPr>
            <p:ph type="subTitle"/>
          </p:nvPr>
        </p:nvSpPr>
        <p:spPr>
          <a:xfrm>
            <a:off x="5364000" y="3860640"/>
            <a:ext cx="2175120" cy="650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굴림"/>
              </a:rPr>
              <a:t>Chris Park</a:t>
            </a:r>
            <a:endParaRPr b="0" lang="en-US" sz="3200" spc="-1" strike="noStrike">
              <a:solidFill>
                <a:srgbClr val="4f261e"/>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333360"/>
            <a:ext cx="8316720" cy="4032360"/>
          </a:xfrm>
          <a:prstGeom prst="rect">
            <a:avLst/>
          </a:prstGeom>
          <a:ln w="0">
            <a:noFill/>
          </a:ln>
        </p:spPr>
      </p:pic>
      <p:sp>
        <p:nvSpPr>
          <p:cNvPr id="94" name="PlaceHolder 1"/>
          <p:cNvSpPr>
            <a:spLocks noGrp="1"/>
          </p:cNvSpPr>
          <p:nvPr>
            <p:ph/>
          </p:nvPr>
        </p:nvSpPr>
        <p:spPr>
          <a:xfrm>
            <a:off x="394920" y="4508280"/>
            <a:ext cx="8280360" cy="198900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Garamond"/>
                <a:ea typeface="굴림"/>
              </a:rPr>
              <a:t>The Great Depression was a severe worldwide economic depression in the decade preceding World War II. ( The timing of the Great Depression started in about 1929 and lasted until the late 1930s or early 1940s.)</a:t>
            </a:r>
            <a:endParaRPr b="0" lang="en-US" sz="2800" spc="-1" strike="noStrike">
              <a:solidFill>
                <a:srgbClr val="4f261e"/>
              </a:solidFill>
              <a:latin typeface="Garamond"/>
            </a:endParaRPr>
          </a:p>
        </p:txBody>
      </p:sp>
      <p:sp>
        <p:nvSpPr>
          <p:cNvPr id="95" name="PlaceHolder 2"/>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Heavy"/>
                <a:ea typeface="굴림"/>
              </a:rPr>
              <a:t>What was the Great Depression?</a:t>
            </a:r>
            <a:endParaRPr b="0" lang="en-US" sz="36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006720"/>
            <a:ext cx="4067280" cy="3851280"/>
          </a:xfrm>
          <a:prstGeom prst="rect">
            <a:avLst/>
          </a:prstGeom>
          <a:ln w="0">
            <a:noFill/>
          </a:ln>
        </p:spPr>
      </p:pic>
      <p:pic>
        <p:nvPicPr>
          <p:cNvPr id="97" name="" descr=""/>
          <p:cNvPicPr/>
          <p:nvPr/>
        </p:nvPicPr>
        <p:blipFill>
          <a:blip r:embed="rId2"/>
          <a:stretch/>
        </p:blipFill>
        <p:spPr>
          <a:xfrm>
            <a:off x="3995640" y="2978280"/>
            <a:ext cx="5148360" cy="3879720"/>
          </a:xfrm>
          <a:prstGeom prst="rect">
            <a:avLst/>
          </a:prstGeom>
          <a:ln w="0">
            <a:noFill/>
          </a:ln>
        </p:spPr>
      </p:pic>
      <p:sp>
        <p:nvSpPr>
          <p:cNvPr id="98" name="PlaceHolder 1"/>
          <p:cNvSpPr>
            <a:spLocks noGrp="1"/>
          </p:cNvSpPr>
          <p:nvPr>
            <p:ph/>
          </p:nvPr>
        </p:nvSpPr>
        <p:spPr>
          <a:xfrm>
            <a:off x="899640" y="691920"/>
            <a:ext cx="7705800" cy="237636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굴림"/>
              </a:rPr>
              <a:t>Most important causes are Stock Market Crash of 1929, Bank Failures, Reduction in Purchasing Across the Board, American Economic Policy with Europe, and Drought Conditions.</a:t>
            </a:r>
            <a:endParaRPr b="0" lang="en-US" sz="3200" spc="-1" strike="noStrike">
              <a:solidFill>
                <a:srgbClr val="4f261e"/>
              </a:solidFill>
              <a:latin typeface="Garamond"/>
            </a:endParaRPr>
          </a:p>
        </p:txBody>
      </p:sp>
      <p:sp>
        <p:nvSpPr>
          <p:cNvPr id="99" name="PlaceHolder 2"/>
          <p:cNvSpPr>
            <a:spLocks noGrp="1"/>
          </p:cNvSpPr>
          <p:nvPr>
            <p:ph type="title"/>
          </p:nvPr>
        </p:nvSpPr>
        <p:spPr>
          <a:xfrm>
            <a:off x="1402920" y="-360"/>
            <a:ext cx="68007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Demi Cond"/>
                <a:ea typeface="굴림"/>
              </a:rPr>
              <a:t>What were some of the causes?</a:t>
            </a:r>
            <a:endParaRPr b="0" lang="en-US" sz="40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4572000" cy="6877080"/>
          </a:xfrm>
          <a:prstGeom prst="rect">
            <a:avLst/>
          </a:prstGeom>
          <a:ln w="0">
            <a:noFill/>
          </a:ln>
        </p:spPr>
      </p:pic>
      <p:sp>
        <p:nvSpPr>
          <p:cNvPr id="101" name="PlaceHolder 1"/>
          <p:cNvSpPr>
            <a:spLocks noGrp="1"/>
          </p:cNvSpPr>
          <p:nvPr>
            <p:ph/>
          </p:nvPr>
        </p:nvSpPr>
        <p:spPr>
          <a:xfrm>
            <a:off x="4284720" y="764640"/>
            <a:ext cx="4859280" cy="6093000"/>
          </a:xfrm>
          <a:prstGeom prst="rect">
            <a:avLst/>
          </a:prstGeom>
          <a:noFill/>
          <a:ln w="0">
            <a:noFill/>
          </a:ln>
        </p:spPr>
        <p:txBody>
          <a:bodyPr lIns="90000" rIns="90000" tIns="46800" bIns="46800" anchor="t">
            <a:normAutofit fontScale="90000"/>
          </a:bodyPr>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굴림"/>
              </a:rPr>
              <a:t>Canada was hit hard by the Great Depression. Between 1929 and 1939, the gross national product dropped 40% (compared to 37% in the US). Unemployment reached 27% at the depth of the Depression in 1933. Many businesses closed, as corporate profits of $396 million in 1929 turned into losses of $98 million in 1933. Canadian exports shrank by 50% from 1929 to 1933. Worst hit were areas dependent on primary industries such as farming, mining and logging, as prices fell and there were few alternative jobs. Families saw most or all of their assets disappear and their debts became heavier as prices fell.</a:t>
            </a:r>
            <a:endParaRPr b="0" lang="en-US" sz="2400" spc="-1" strike="noStrike">
              <a:solidFill>
                <a:srgbClr val="4f261e"/>
              </a:solidFill>
              <a:latin typeface="Garamond"/>
            </a:endParaRPr>
          </a:p>
        </p:txBody>
      </p:sp>
      <p:sp>
        <p:nvSpPr>
          <p:cNvPr id="102" name="PlaceHolder 2"/>
          <p:cNvSpPr>
            <a:spLocks noGrp="1"/>
          </p:cNvSpPr>
          <p:nvPr>
            <p:ph type="title"/>
          </p:nvPr>
        </p:nvSpPr>
        <p:spPr>
          <a:xfrm>
            <a:off x="5363640" y="-360"/>
            <a:ext cx="2768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Heavy"/>
                <a:ea typeface="굴림"/>
              </a:rPr>
              <a:t>Canada</a:t>
            </a:r>
            <a:endParaRPr b="0" lang="en-US" sz="5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920" y="189000"/>
            <a:ext cx="7315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Demi Cond"/>
                <a:ea typeface="굴림"/>
              </a:rPr>
              <a:t>The main areas of great depression.</a:t>
            </a:r>
            <a:endParaRPr b="0" lang="en-US" sz="4000" spc="-1" strike="noStrike">
              <a:solidFill>
                <a:srgbClr val="4f261e"/>
              </a:solidFill>
              <a:latin typeface="Garamond"/>
            </a:endParaRPr>
          </a:p>
        </p:txBody>
      </p:sp>
      <p:pic>
        <p:nvPicPr>
          <p:cNvPr id="104" name="" descr=""/>
          <p:cNvPicPr/>
          <p:nvPr/>
        </p:nvPicPr>
        <p:blipFill>
          <a:blip r:embed="rId1"/>
          <a:stretch/>
        </p:blipFill>
        <p:spPr>
          <a:xfrm>
            <a:off x="468360" y="1052640"/>
            <a:ext cx="3637080" cy="3585960"/>
          </a:xfrm>
          <a:prstGeom prst="rect">
            <a:avLst/>
          </a:prstGeom>
          <a:ln w="0">
            <a:noFill/>
          </a:ln>
        </p:spPr>
      </p:pic>
      <p:pic>
        <p:nvPicPr>
          <p:cNvPr id="105" name="" descr=""/>
          <p:cNvPicPr/>
          <p:nvPr/>
        </p:nvPicPr>
        <p:blipFill>
          <a:blip r:embed="rId2"/>
          <a:stretch/>
        </p:blipFill>
        <p:spPr>
          <a:xfrm>
            <a:off x="2124000" y="4292640"/>
            <a:ext cx="5329440" cy="2457360"/>
          </a:xfrm>
          <a:prstGeom prst="rect">
            <a:avLst/>
          </a:prstGeom>
          <a:ln w="0">
            <a:noFill/>
          </a:ln>
        </p:spPr>
      </p:pic>
      <p:pic>
        <p:nvPicPr>
          <p:cNvPr id="106" name="" descr=""/>
          <p:cNvPicPr/>
          <p:nvPr/>
        </p:nvPicPr>
        <p:blipFill>
          <a:blip r:embed="rId3"/>
          <a:stretch/>
        </p:blipFill>
        <p:spPr>
          <a:xfrm>
            <a:off x="4859280" y="1052640"/>
            <a:ext cx="3600360" cy="33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564000" y="0"/>
            <a:ext cx="5580000" cy="6858000"/>
          </a:xfrm>
          <a:prstGeom prst="rect">
            <a:avLst/>
          </a:prstGeom>
          <a:noFill/>
          <a:ln w="0">
            <a:noFill/>
          </a:ln>
        </p:spPr>
        <p:txBody>
          <a:bodyPr lIns="90000" rIns="90000" tIns="46800" bIns="46800" anchor="t">
            <a:normAutofit fontScale="94000"/>
          </a:bodyPr>
          <a:p>
            <a:pPr marL="32220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The migrant workers are people who are engaged or have been engaged in a remunerated activity in a State of which he or she is not a national.</a:t>
            </a:r>
            <a:r>
              <a:rPr b="0" lang="en-US" sz="2300" spc="-1" strike="noStrike">
                <a:solidFill>
                  <a:srgbClr val="000000"/>
                </a:solidFill>
                <a:latin typeface="Garamond"/>
              </a:rPr>
              <a:t> </a:t>
            </a:r>
            <a:endParaRPr b="0" lang="en-US" sz="2300" spc="-1" strike="noStrike">
              <a:solidFill>
                <a:srgbClr val="4f261e"/>
              </a:solidFill>
              <a:latin typeface="Garamond"/>
            </a:endParaRPr>
          </a:p>
          <a:p>
            <a:pPr marL="32220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anks closed. Many people lost all their savings. Businesses closed, and many people lost their jobs and their homes. A time of great hardship began. The United States economy went into a depression. Soon the Depression spread to the rest of the world. This was called the Great Depression. In the United States, one out of every three people was unemployed. During this period, many farmers were forced to sell their farms. Many farmers became migrant workers. They moved with their families. from one place to another looking for work. In 1932, Franklin D. Roosevelt was elected President. For him, the Great Depression was a national emergency. He told Americans that he had made a new plan to help the economy. The new plan was called the New Deal.</a:t>
            </a:r>
            <a:endParaRPr b="0" lang="en-US" sz="2300" spc="-1" strike="noStrike">
              <a:solidFill>
                <a:srgbClr val="4f261e"/>
              </a:solidFill>
              <a:latin typeface="Garamond"/>
            </a:endParaRPr>
          </a:p>
        </p:txBody>
      </p:sp>
      <p:sp>
        <p:nvSpPr>
          <p:cNvPr id="108" name="PlaceHolder 2"/>
          <p:cNvSpPr>
            <a:spLocks noGrp="1"/>
          </p:cNvSpPr>
          <p:nvPr>
            <p:ph type="title"/>
          </p:nvPr>
        </p:nvSpPr>
        <p:spPr>
          <a:xfrm>
            <a:off x="-360" y="-360"/>
            <a:ext cx="370836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Cond"/>
                <a:ea typeface="굴림"/>
              </a:rPr>
              <a:t>Who were the migrant workers and how were they affected by the Great Depression?</a:t>
            </a:r>
            <a:r>
              <a:rPr b="0" lang="en-US" sz="4000" spc="-1" strike="noStrike">
                <a:solidFill>
                  <a:srgbClr val="000000"/>
                </a:solidFill>
                <a:latin typeface="Franklin Gothic Demi Cond"/>
                <a:ea typeface="굴림"/>
              </a:rPr>
              <a:t> </a:t>
            </a:r>
            <a:endParaRPr b="0" lang="en-US" sz="4000" spc="-1" strike="noStrike">
              <a:solidFill>
                <a:srgbClr val="4f261e"/>
              </a:solidFill>
              <a:latin typeface="Garamond"/>
            </a:endParaRPr>
          </a:p>
        </p:txBody>
      </p:sp>
      <p:pic>
        <p:nvPicPr>
          <p:cNvPr id="109" name="" descr=""/>
          <p:cNvPicPr/>
          <p:nvPr/>
        </p:nvPicPr>
        <p:blipFill>
          <a:blip r:embed="rId1"/>
          <a:stretch/>
        </p:blipFill>
        <p:spPr>
          <a:xfrm>
            <a:off x="0" y="1844640"/>
            <a:ext cx="3780000" cy="50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16000" y="-360"/>
            <a:ext cx="7238880" cy="2924280"/>
          </a:xfrm>
          <a:prstGeom prst="rect">
            <a:avLst/>
          </a:prstGeom>
          <a:noFill/>
          <a:ln w="0">
            <a:noFill/>
          </a:ln>
        </p:spPr>
        <p:txBody>
          <a:bodyPr lIns="90000" rIns="90000" tIns="46800" bIns="46800" anchor="t">
            <a:normAutofit fontScale="95000"/>
          </a:bodyPr>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New Deal gave government a more active part in the economy. Roosevelt started government programs to make new jobs. These jobs included building roads, airports, and schools. Many artists and photographers also worked on government project.</a:t>
            </a:r>
            <a:endParaRPr b="0" lang="en-US" sz="2800" spc="-1" strike="noStrike">
              <a:solidFill>
                <a:srgbClr val="4f261e"/>
              </a:solidFill>
              <a:latin typeface="Garamond"/>
            </a:endParaRPr>
          </a:p>
        </p:txBody>
      </p:sp>
      <p:pic>
        <p:nvPicPr>
          <p:cNvPr id="111" name="" descr=""/>
          <p:cNvPicPr/>
          <p:nvPr/>
        </p:nvPicPr>
        <p:blipFill>
          <a:blip r:embed="rId1"/>
          <a:stretch/>
        </p:blipFill>
        <p:spPr>
          <a:xfrm>
            <a:off x="0" y="4397400"/>
            <a:ext cx="3059280" cy="2460600"/>
          </a:xfrm>
          <a:prstGeom prst="rect">
            <a:avLst/>
          </a:prstGeom>
          <a:ln w="0">
            <a:noFill/>
          </a:ln>
        </p:spPr>
      </p:pic>
      <p:pic>
        <p:nvPicPr>
          <p:cNvPr id="112" name="" descr=""/>
          <p:cNvPicPr/>
          <p:nvPr/>
        </p:nvPicPr>
        <p:blipFill>
          <a:blip r:embed="rId2"/>
          <a:stretch/>
        </p:blipFill>
        <p:spPr>
          <a:xfrm>
            <a:off x="2843280" y="2681280"/>
            <a:ext cx="4248000" cy="4176720"/>
          </a:xfrm>
          <a:prstGeom prst="rect">
            <a:avLst/>
          </a:prstGeom>
          <a:ln w="0">
            <a:noFill/>
          </a:ln>
        </p:spPr>
      </p:pic>
      <p:pic>
        <p:nvPicPr>
          <p:cNvPr id="113" name="" descr=""/>
          <p:cNvPicPr/>
          <p:nvPr/>
        </p:nvPicPr>
        <p:blipFill>
          <a:blip r:embed="rId3"/>
          <a:stretch/>
        </p:blipFill>
        <p:spPr>
          <a:xfrm>
            <a:off x="0" y="2205000"/>
            <a:ext cx="285768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2:42:01Z</dcterms:created>
  <dc:creator>遐想 2.0</dc:creator>
  <dc:description/>
  <cp:keywords/>
  <dc:language>en-US</dc:language>
  <cp:lastModifiedBy>Hang</cp:lastModifiedBy>
  <dcterms:modified xsi:type="dcterms:W3CDTF">2010-03-26T16:53:45Z</dcterms:modified>
  <cp:revision>4</cp:revision>
  <dc:subject/>
  <dc:title>Visual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81042</vt:lpwstr>
  </property>
</Properties>
</file>